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whoosh.wav" ContentType="audio/x-wav"/>
  <Override PartName="/ppt/media/image4.jpeg" ContentType="image/jpeg"/>
  <Override PartName="/ppt/media/camera.wav" ContentType="audio/x-wav"/>
  <Override PartName="/ppt/media/image7.jpeg" ContentType="image/jpeg"/>
  <Override PartName="/ppt/media/image6.jpeg" ContentType="image/jpeg"/>
  <Override PartName="/ppt/media/carbrake.wav" ContentType="audio/x-wav"/>
  <Override PartName="/ppt/media/image8.jpeg" ContentType="image/jpeg"/>
  <Override PartName="/ppt/media/typ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4651-5A94-47EC-A3DB-F75803804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BAB2-2487-4E44-B771-0463B5F1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9E85-8BF9-47B9-B7BB-2F83237D9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2302-919D-4B8E-840C-A41868995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9E63-DC36-4C44-940D-D5F6127A3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1C13-F790-4788-A56D-7FC6B6E1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18E4-ECC7-4C16-82AF-2F49E49B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4604-0A48-4EB8-A136-94502952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5009-2AFB-4562-BAC6-B331B0FA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2912-EF21-46E1-BD01-ED956857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0A2F-3E0C-4330-8E13-AF6B8554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3767-56DA-426A-AA7E-A82B467B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420E-3FEC-422A-B422-ECD2EDFE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BA64-734B-4DB2-9374-507298AF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1380-515E-4D2C-90B0-32C51BCC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D70B-BB8B-4819-A77A-1D3236C7C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D8AF-049F-4E5C-9303-596BB8F05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BC19-B3A7-4C73-8691-EB9DA00B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34CC-CC41-4076-8A24-81FF19E3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CC49-377E-4CDD-B18C-C0948C54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4BD4-63EC-423A-ADF3-470E7DF4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8729-4165-438B-81CD-C9EB6C3D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63F5-88AF-4FE1-9496-21E589C5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8FC5-5D8D-401F-AA5A-CAACE83D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2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694480"/>
                <a:gd name="textAreaBottom" fmla="*/ 5694840 h 5694480"/>
              </a:gdLst>
              <a:ahLst/>
              <a:rect l="textAreaLeft" t="textAreaTop" r="textAreaRight" b="textAreaBottom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854280"/>
                <a:gd name="textAreaBottom" fmla="*/ 854640 h 854280"/>
              </a:gdLst>
              <a:ahLst/>
              <a:rect l="textAreaLeft" t="textAreaTop" r="textAreaRight" b="textAreaBottom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069920"/>
                <a:gd name="textAreaBottom" fmla="*/ 1070280 h 1069920"/>
              </a:gdLst>
              <a:ahLst/>
              <a:rect l="textAreaLeft" t="textAreaTop" r="textAreaRight" b="textAreaBottom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>
                <a:gd name="textAreaLeft" fmla="*/ 0 w 6667560"/>
                <a:gd name="textAreaRight" fmla="*/ 6667920 w 6667560"/>
                <a:gd name="textAreaTop" fmla="*/ 0 h 5335560"/>
                <a:gd name="textAreaBottom" fmla="*/ 5335920 h 5335560"/>
              </a:gdLst>
              <a:ahLst/>
              <a:rect l="textAreaLeft" t="textAreaTop" r="textAreaRight" b="textAreaBottom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055680"/>
                <a:gd name="textAreaBottom" fmla="*/ 3056040 h 3055680"/>
              </a:gdLst>
              <a:ahLst/>
              <a:rect l="textAreaLeft" t="textAreaTop" r="textAreaRight" b="textAreaBottom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>
                <a:gd name="textAreaLeft" fmla="*/ 0 w 6237360"/>
                <a:gd name="textAreaRight" fmla="*/ 6237720 w 6237360"/>
                <a:gd name="textAreaTop" fmla="*/ 0 h 3365640"/>
                <a:gd name="textAreaBottom" fmla="*/ 3366000 h 3365640"/>
              </a:gdLst>
              <a:ahLst/>
              <a:rect l="textAreaLeft" t="textAreaTop" r="textAreaRight" b="textAreaBottom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1987-9265-4D9B-AAAC-E0A6484CC9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5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2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3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694480"/>
                <a:gd name="textAreaBottom" fmla="*/ 5694840 h 5694480"/>
              </a:gdLst>
              <a:ahLst/>
              <a:rect l="textAreaLeft" t="textAreaTop" r="textAreaRight" b="textAreaBottom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854280"/>
                <a:gd name="textAreaBottom" fmla="*/ 854640 h 854280"/>
              </a:gdLst>
              <a:ahLst/>
              <a:rect l="textAreaLeft" t="textAreaTop" r="textAreaRight" b="textAreaBottom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069920"/>
                <a:gd name="textAreaBottom" fmla="*/ 1070280 h 1069920"/>
              </a:gdLst>
              <a:ahLst/>
              <a:rect l="textAreaLeft" t="textAreaTop" r="textAreaRight" b="textAreaBottom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>
                <a:gd name="textAreaLeft" fmla="*/ 0 w 6667560"/>
                <a:gd name="textAreaRight" fmla="*/ 6667920 w 6667560"/>
                <a:gd name="textAreaTop" fmla="*/ 0 h 5335560"/>
                <a:gd name="textAreaBottom" fmla="*/ 5335920 h 5335560"/>
              </a:gdLst>
              <a:ahLst/>
              <a:rect l="textAreaLeft" t="textAreaTop" r="textAreaRight" b="textAreaBottom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055680"/>
                <a:gd name="textAreaBottom" fmla="*/ 3056040 h 3055680"/>
              </a:gdLst>
              <a:ahLst/>
              <a:rect l="textAreaLeft" t="textAreaTop" r="textAreaRight" b="textAreaBottom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>
                <a:gd name="textAreaLeft" fmla="*/ 0 w 6237360"/>
                <a:gd name="textAreaRight" fmla="*/ 6237720 w 6237360"/>
                <a:gd name="textAreaTop" fmla="*/ 0 h 3365640"/>
                <a:gd name="textAreaBottom" fmla="*/ 3366000 h 3365640"/>
              </a:gdLst>
              <a:ahLst/>
              <a:rect l="textAreaLeft" t="textAreaTop" r="textAreaRight" b="textAreaBottom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B619-A62F-471B-BB89-C5F844056DD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Vasco-da-gama-2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ldermania.com/interactive/data/Programs/20080916/home_buying/images/smileys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aldermania.com/interactive/data/Programs/20080916/home_buying/images/smileys.jpg" TargetMode="External"/><Relationship Id="rId6" Type="http://schemas.openxmlformats.org/officeDocument/2006/relationships/image" Target="../media/image2.jpeg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bing.com/images/search?q=Pile+Of+Gold+Coins" TargetMode="External"/><Relationship Id="rId3" Type="http://schemas.openxmlformats.org/officeDocument/2006/relationships/hyperlink" Target="http://www.bing.com/images/search?q=Pile+Of+Gold+Coins" TargetMode="External"/><Relationship Id="rId4" Type="http://schemas.openxmlformats.org/officeDocument/2006/relationships/image" Target="../media/image4.jpe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VASCO DE GAM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904760" y="5257800"/>
            <a:ext cx="47242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By: Vallie Etien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Picture 2" descr="http://upload.wikimedia.org/wikipedia/commons/thumb/5/50/Vasco-da-gama-2.jpg/225px-Vasco-da-gama-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1676520"/>
            <a:ext cx="2438640" cy="3055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762120"/>
            <a:ext cx="914400" cy="761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91520" y="762120"/>
            <a:ext cx="91440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*~Fun Facts~*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e Gama was one of the first Europeans to take a journey by sea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Vasco De Gama was actually very harsh in his methods of leading a crew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t, he had a reputation of always succeeding at what he started, one way or another.</a:t>
            </a: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Picture 5" descr="http://www.keralacafe.com/all_about_kerala/images/image4.jpg"/>
          <p:cNvPicPr/>
          <p:nvPr/>
        </p:nvPicPr>
        <p:blipFill>
          <a:blip r:embed="rId1"/>
          <a:stretch/>
        </p:blipFill>
        <p:spPr>
          <a:xfrm>
            <a:off x="2819520" y="4038480"/>
            <a:ext cx="34290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*~Citations~*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Verdana"/>
              </a:rPr>
              <a:t>Ames, Glenn. "http://en.wikipedia.org/wiki/Vasco_da_Gama." </a:t>
            </a:r>
            <a:r>
              <a:rPr b="0" i="1" lang="en-US" sz="1400" spc="-1" strike="noStrike">
                <a:solidFill>
                  <a:srgbClr val="ffffcc"/>
                </a:solidFill>
                <a:latin typeface="Verdana"/>
              </a:rPr>
              <a:t>Wikipedia</a:t>
            </a:r>
            <a:r>
              <a:rPr b="0" lang="en-US" sz="1400" spc="-1" strike="noStrike">
                <a:solidFill>
                  <a:srgbClr val="ffffcc"/>
                </a:solidFill>
                <a:latin typeface="Verdana"/>
              </a:rPr>
              <a:t>. 2004. Wikimedia Foundations, Web. 6 Oct 2009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34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Verdana"/>
              </a:rPr>
              <a:t>Vasco da Gama." Encyclopedia Britannica. 2009. Encyclopedia Britannica Online. 06 Oct. 2009 &lt;http://www.Britannica.com/EBchecked/topic/224711/Vasco-da-Gama&gt;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34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Verdana"/>
              </a:rPr>
              <a:t>"http://library.thinkquest.org/4034/dagama.html." </a:t>
            </a:r>
            <a:r>
              <a:rPr b="0" i="1" lang="en-US" sz="1400" spc="-1" strike="noStrike">
                <a:solidFill>
                  <a:srgbClr val="ffffcc"/>
                </a:solidFill>
                <a:latin typeface="Verdana"/>
              </a:rPr>
              <a:t>Explorers of the Millennium</a:t>
            </a:r>
            <a:r>
              <a:rPr b="0" lang="en-US" sz="1400" spc="-1" strike="noStrike">
                <a:solidFill>
                  <a:srgbClr val="ffffcc"/>
                </a:solidFill>
                <a:latin typeface="Verdana"/>
              </a:rPr>
              <a:t>. 2004. Web. 7 Oct 2009. &lt;http://library.thinkquest.org/4034/dagama.htm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200000"/>
              </a:lnSpc>
              <a:spcBef>
                <a:spcPts val="34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Verdana"/>
              </a:rPr>
              <a:t>"Vasco da Gama." </a:t>
            </a:r>
            <a:r>
              <a:rPr b="1" lang="en-US" sz="1400" spc="-1" strike="noStrike" u="sng">
                <a:solidFill>
                  <a:srgbClr val="ffffcc"/>
                </a:solidFill>
                <a:uFillTx/>
                <a:latin typeface="Verdana"/>
              </a:rPr>
              <a:t>The Columbia Encyclopedia, Sixth Edition</a:t>
            </a:r>
            <a:r>
              <a:rPr b="1" lang="en-US" sz="1400" spc="-1" strike="noStrike">
                <a:solidFill>
                  <a:srgbClr val="ffffcc"/>
                </a:solidFill>
                <a:latin typeface="Verdana"/>
              </a:rPr>
              <a:t>. 2008. </a:t>
            </a:r>
            <a:r>
              <a:rPr b="1" i="1" lang="en-US" sz="1400" spc="-1" strike="noStrike">
                <a:solidFill>
                  <a:srgbClr val="ffffcc"/>
                </a:solidFill>
                <a:latin typeface="Verdana"/>
              </a:rPr>
              <a:t>Encyclopedia.com.</a:t>
            </a:r>
            <a:r>
              <a:rPr b="1" lang="en-US" sz="1400" spc="-1" strike="noStrike">
                <a:solidFill>
                  <a:srgbClr val="ffffcc"/>
                </a:solidFill>
                <a:latin typeface="Verdana"/>
              </a:rPr>
              <a:t> 7 Oct. 2009 &lt;http://www.encyclopedia.com&gt;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2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75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75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75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75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*~More Citations..~*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Hartig, Otto. "Vasco da Gama." The Catholic Encyclopedia. Vol. 6. New York: Robert Appleton Company, 1909. 7 Oct. 2009 &lt;http://www.newadvent.org/cathen/06374a.htm&gt;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*~Here’s some background info..~*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Vasco de Gama was born on 1460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e died on  December 24, 1524, making him 54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e was a Portuguese explorer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e was the governor of Portugal with the title of Viceroy (a high ranking official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The Republic of Venice had taken control of the trade routes involving Europe and Asia. Portugal wanted to used the trade routes of Bartolomeu Dias to cut Venice off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*~His First Voyage:~*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is first Voyage was on July 8, 1497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e was accompanied by 170 men and a fleet of four ship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São Rafael” was the name of his ship. It weight 178 tons, was 27 meters long, and 8.5 meters wid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e set sail from Lisbon and landed in the Cape of Good Hop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*~His First Voyage (cont.)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e was looking for riches to bring back to his ruler, but there were non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The natives were getting suspicious, so they forced him out of their land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In conclusion, this trip was unsuccessful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AutoShape 5">
            <a:hlinkClick r:id="rId2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2" name="Picture 9" descr="Pile of Gold Coin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66880" y="4038480"/>
            <a:ext cx="373392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*~A Map of De Gama’s First Voyage.~*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4" name="Picture 2" descr="http://wpcontent.answers.com/wikipedia/commons/thumb/7/75/Gama_route_1.svg/300px-Gama_route_1.svg.png"/>
          <p:cNvPicPr/>
          <p:nvPr/>
        </p:nvPicPr>
        <p:blipFill>
          <a:blip r:embed="rId1"/>
          <a:stretch/>
        </p:blipFill>
        <p:spPr>
          <a:xfrm>
            <a:off x="2052720" y="1981080"/>
            <a:ext cx="5038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*~His Second Voyage.~*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He had made this trip to make use of the favorable winds around the ocea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On February 12, 1502, De Gama sailed with a fleet of twenty warships with the mindset of enforcing Portuguese interests in the east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After arriving in Calicut, the native gave him trouble, so he attacked them and moved o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*~His Second Voyage~*(cont.)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His next stop was Cochin, where the people were warm and friendly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After this trip, he returned to Europe with gold and silk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Later on, once he had reached the Indian Ocean, De Gama waited for a ship to return from Mecca and stole all the valuables on it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When De Gama re-arrived to Calicut on October 30, 1502 the Zamorin was willing to sign a treaty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After reviewing said treaty, he destroyed a Calicut fleet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6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*~His Third, and last, Voyage.~*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Vasco De Gama had earned himself the title of “fixer of problems” that started in India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e Gama was sent to the subcontinent once more time in 1524. (the purpose was that he was supposed to replace Eduardo de Menses as viceroy (representative) of the Portuguese.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Sadly, De Gama caught malaria not long after arriving in Goa and died in Cochin on Christmas Eve in 1524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Picture 1029" descr="Mosquito Ringtones - The ..."/>
          <p:cNvPicPr/>
          <p:nvPr/>
        </p:nvPicPr>
        <p:blipFill>
          <a:blip r:embed="rId1"/>
          <a:stretch/>
        </p:blipFill>
        <p:spPr>
          <a:xfrm>
            <a:off x="3505320" y="4495680"/>
            <a:ext cx="1679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*~Fun Facts~*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“</a:t>
            </a: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São Rafael” (the boat that De Gama used on his first voyage) was burned because most of his crew members had scurvy and died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In 1539, his remains, which up to that time had lain in the Franciscan church there, were brought to Portugal and interred at Vidigueira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Contrarily to his very much unappealing personality, he had a wife and children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Picture 1029" descr="Madden's Old Ship"/>
          <p:cNvPicPr/>
          <p:nvPr/>
        </p:nvPicPr>
        <p:blipFill>
          <a:blip r:embed="rId1"/>
          <a:stretch/>
        </p:blipFill>
        <p:spPr>
          <a:xfrm>
            <a:off x="3429000" y="3962520"/>
            <a:ext cx="20415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00:18:32Z</dcterms:created>
  <dc:creator>getienne</dc:creator>
  <dc:description/>
  <dc:language>en-US</dc:language>
  <cp:lastModifiedBy>user</cp:lastModifiedBy>
  <dcterms:modified xsi:type="dcterms:W3CDTF">2009-10-09T12:31:58Z</dcterms:modified>
  <cp:revision>12</cp:revision>
  <dc:subject/>
  <dc:title>VASCO DE GAMA &amp;&amp; ANTONIO VIVALDI =)</dc:title>
</cp:coreProperties>
</file>